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199313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790560" y="744120"/>
            <a:ext cx="520848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Y견고딕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96FE-54F5-4071-91AF-A776D6BF5E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90560" y="744480"/>
            <a:ext cx="520848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Bootup time reduction method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Boot lo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9ccff"/>
                </a:solidFill>
                <a:latin typeface="굴림"/>
              </a:rPr>
              <a:t>Preset loops_per_jiff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9ccff"/>
                </a:solidFill>
                <a:latin typeface="굴림"/>
              </a:rPr>
              <a:t>Disable Consol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9ccff"/>
                </a:solidFill>
                <a:latin typeface="굴림"/>
              </a:rPr>
              <a:t>Device Driver Initialization</a:t>
            </a:r>
            <a:r>
              <a:rPr b="0" lang="ko-KR" sz="1200" spc="-1" strike="noStrike">
                <a:solidFill>
                  <a:srgbClr val="99ccff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99ccff"/>
                </a:solidFill>
                <a:latin typeface="굴림"/>
              </a:rPr>
              <a:t>Concurrent driver ini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9ccff"/>
                </a:solidFill>
                <a:latin typeface="굴림"/>
              </a:rPr>
              <a:t>Lazy Memory Allo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Root File 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pplication Optimization Issu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uspend/resu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01B7-ECCC-4CA1-992F-09A70C21B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" y="406692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7604-BB20-4D54-BDC5-A5D38D1B7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060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3DF8-2A75-48E6-A903-1145FA87B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2656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9636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712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2656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9636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3B9B-A0CD-429D-AEA9-D8AA69C6A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7120" y="122040"/>
            <a:ext cx="93744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50B2-7D2B-42D6-9F0F-9EF7B2F0B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060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20" y="406692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060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2656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36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712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2656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9636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2245-D233-4410-B995-010ECE4DF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F88B-D967-408D-9129-61747D267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2665-66C1-4176-8977-0397B2605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7120" y="122040"/>
            <a:ext cx="93744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A978-A29B-4C4F-8291-FD5430006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8090-CB6A-48BE-A271-6ABDFE54C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060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D615-E2C1-4D2B-BE5B-6DCF54294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3445-60A3-4C49-84AB-0686FD814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5616720"/>
          <a:ext cx="15127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616720"/>
                    <a:ext cx="1512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"/>
          <p:cNvGraphicFramePr/>
          <p:nvPr/>
        </p:nvGraphicFramePr>
        <p:xfrm>
          <a:off x="1512720" y="6118200"/>
          <a:ext cx="935280" cy="86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12720" y="6118200"/>
                    <a:ext cx="9352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6"/>
          <a:srcRect l="0" t="12566" r="0" b="0"/>
          <a:stretch/>
        </p:blipFill>
        <p:spPr>
          <a:xfrm>
            <a:off x="0" y="-3240"/>
            <a:ext cx="10080720" cy="1033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7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550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550"/>
              </a:spcBef>
              <a:buClr>
                <a:srgbClr val="000000"/>
              </a:buClr>
              <a:buFont typeface="HY헤드라인M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3" marL="1728720" indent="-247680">
              <a:spcBef>
                <a:spcPts val="550"/>
              </a:spcBef>
              <a:buClr>
                <a:srgbClr val="000000"/>
              </a:buClr>
              <a:buFont typeface="굴림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4" marL="2222640" indent="-247680">
              <a:spcBef>
                <a:spcPts val="550"/>
              </a:spcBef>
              <a:buClr>
                <a:srgbClr val="000000"/>
              </a:buClr>
              <a:buFont typeface="굴림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5" marL="2222640" indent="-247680">
              <a:spcBef>
                <a:spcPts val="550"/>
              </a:spcBef>
              <a:buClr>
                <a:srgbClr val="000000"/>
              </a:buClr>
              <a:buFont typeface="굴림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6" marL="2222640" indent="-247680">
              <a:spcBef>
                <a:spcPts val="550"/>
              </a:spcBef>
              <a:buClr>
                <a:srgbClr val="000000"/>
              </a:buClr>
              <a:buFont typeface="굴림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4300200" y="6872040"/>
            <a:ext cx="2351160" cy="206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US" sz="1300" spc="-1" strike="noStrike">
                <a:solidFill>
                  <a:srgbClr val="990000"/>
                </a:solidFill>
                <a:latin typeface="HY헤드라인M"/>
                <a:ea typeface="HY헤드라인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578297E-6E68-4B93-AC03-499A8A224498}" type="slidenum">
              <a:rPr b="0" lang="en-US" sz="13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&lt;number&gt;</a:t>
            </a:fld>
            <a:r>
              <a:rPr b="0" lang="en-US" sz="13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8"/>
          <a:stretch/>
        </p:blipFill>
        <p:spPr>
          <a:xfrm>
            <a:off x="9215280" y="6775560"/>
            <a:ext cx="854280" cy="403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9"/>
          <a:stretch/>
        </p:blipFill>
        <p:spPr>
          <a:xfrm>
            <a:off x="144360" y="6769080"/>
            <a:ext cx="180036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236320"/>
            <a:ext cx="8569440" cy="1543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Y견고딕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HY견고딕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5400720"/>
          <a:ext cx="15127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00720"/>
                    <a:ext cx="1512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438200" y="5977080"/>
          <a:ext cx="1225800" cy="113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38200" y="5977080"/>
                    <a:ext cx="122580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9107640" y="96840"/>
            <a:ext cx="853920" cy="40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44360" y="6696000"/>
            <a:ext cx="1800360" cy="37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HY헤드라인M"/>
              </a:rPr>
              <a:t>Click to edit the outline text format</a:t>
            </a: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  <a:p>
            <a:pPr lvl="1" marL="493560" indent="0" algn="ctr">
              <a:spcBef>
                <a:spcPts val="4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987480" algn="ctr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3" marL="1481040" algn="ctr">
              <a:spcBef>
                <a:spcPts val="425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4" marL="1974960" algn="ctr">
              <a:spcBef>
                <a:spcPts val="425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5" marL="1974960">
              <a:spcBef>
                <a:spcPts val="425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6" marL="1974960">
              <a:spcBef>
                <a:spcPts val="425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www-106.ibm.com/developerworks/linux/library/l-boot.html?ca=dgr-lnxw04BootFaster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236320"/>
            <a:ext cx="8569440" cy="1543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Y견고딕"/>
              </a:rPr>
              <a:t>Linux Bootup Time Reduction for Digital Still Camera</a:t>
            </a:r>
            <a:endParaRPr b="0" lang="en-US" sz="39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17360" y="5146200"/>
            <a:ext cx="5543640" cy="1251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9999"/>
                </a:solidFill>
                <a:latin typeface="HY헤드라인M"/>
              </a:rPr>
              <a:t>Chan Ju, Park</a:t>
            </a: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9999"/>
                </a:solidFill>
                <a:latin typeface="HY헤드라인M"/>
              </a:rPr>
              <a:t>SW Laboratories</a:t>
            </a: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9999"/>
                </a:solidFill>
                <a:latin typeface="HY헤드라인M"/>
              </a:rPr>
              <a:t>Samsung Electronics</a:t>
            </a: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04720" y="1079640"/>
          <a:ext cx="9144000" cy="5473440"/>
        </p:xfrm>
        <a:graphic>
          <a:graphicData uri="http://schemas.openxmlformats.org/drawingml/2006/table">
            <a:tbl>
              <a:tblPr/>
              <a:tblGrid>
                <a:gridCol w="2951280"/>
                <a:gridCol w="6192720"/>
              </a:tblGrid>
              <a:tr h="586080">
                <a:tc rowSpan="2"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257180"/>
                        <a:buBlip>
                          <a:blip r:embed="rId1"/>
                        </a:buBlip>
                        <a:tabLst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Boot Loa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System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Kernel image copy to RA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 rowSpan="3"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257180"/>
                        <a:buBlip>
                          <a:blip r:embed="rId2"/>
                        </a:buBlip>
                        <a:tabLst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Kernel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Init kern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Init device driv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Mount root file sy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rowSpan="4"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257180"/>
                        <a:buBlip>
                          <a:blip r:embed="rId3"/>
                        </a:buBlip>
                        <a:tabLst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Application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start RC scrip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SC Process cre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SC application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Preview Mode (ready-to-sho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57120" y="122400"/>
            <a:ext cx="9374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  <a:ea typeface="HY견고딕"/>
              </a:rPr>
              <a:t>DSC Booting Procedure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524"/>
              </a:spcBef>
              <a:buSzPct val="269327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bootloader 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set ~ OneNAND boot loader(xloader) execut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66ff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</a:rPr>
              <a:t>xloader copied to SDRAM &amp; execute at SDRA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66ff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</a:rPr>
              <a:t>xloader copy u-boot to RA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66ff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</a:rPr>
              <a:t>DSC motor init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66ff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</a:rPr>
              <a:t>u-boot execute &amp; copy kernel Image to SDRA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lnSpc>
                <a:spcPct val="90000"/>
              </a:lnSpc>
              <a:spcBef>
                <a:spcPts val="524"/>
              </a:spcBef>
              <a:buSzPct val="269327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kernel init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Kernel Init code execut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nit kernel subsyste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nit static modul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ount cramfs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execute init script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lnSpc>
                <a:spcPct val="90000"/>
              </a:lnSpc>
              <a:spcBef>
                <a:spcPts val="524"/>
              </a:spcBef>
              <a:buSzPct val="269327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application init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execute basic DSC application modul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etup preview mode sequenc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display preview &amp; OSD Imag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Boot time measurement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Using H/W device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Expensive 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arget code modification is needed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Exac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Using serial output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ARM or MIPS has no counter register (x86:TSC reg.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Using host serial in cross development environment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feature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Cheap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No or few modification for the target cod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Can collect much data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Comparatively small differences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Y견고딕"/>
              </a:rPr>
              <a:t>Initial bootup time (before optimization)</a:t>
            </a:r>
            <a:endParaRPr b="0" lang="en-US" sz="3100" spc="-1" strike="noStrike">
              <a:solidFill>
                <a:srgbClr val="ffffff"/>
              </a:solidFill>
              <a:latin typeface="HY견고딕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9640" y="2232000"/>
          <a:ext cx="3600720" cy="4464000"/>
        </p:xfrm>
        <a:graphic>
          <a:graphicData uri="http://schemas.openxmlformats.org/drawingml/2006/table">
            <a:tbl>
              <a:tblPr/>
              <a:tblGrid>
                <a:gridCol w="2513160"/>
                <a:gridCol w="1087560"/>
              </a:tblGrid>
              <a:tr h="10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9720" indent="-36972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5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2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(m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9720" indent="-36972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48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9720" indent="-36972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5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9720" indent="-36972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6.7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03280" y="1008000"/>
            <a:ext cx="858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499"/>
              </a:spcBef>
              <a:buSzPct val="256981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Just after kernel and D/D por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90000"/>
              </a:lnSpc>
              <a:spcBef>
                <a:spcPts val="499"/>
              </a:spcBef>
              <a:buSzPct val="256981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Using NAND flash, zImag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3280" y="2232000"/>
          <a:ext cx="5545080" cy="4464000"/>
        </p:xfrm>
        <a:graphic>
          <a:graphicData uri="http://schemas.openxmlformats.org/drawingml/2006/table">
            <a:tbl>
              <a:tblPr/>
              <a:tblGrid>
                <a:gridCol w="5545080"/>
              </a:tblGrid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System ini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(bootloade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Image cop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zImage decompres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linux kernel sta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linux kernel initial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SC Process creation &amp;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Preview st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Y견고딕"/>
              </a:rPr>
              <a:t>Applied methods</a:t>
            </a:r>
            <a:endParaRPr b="0" lang="en-US" sz="37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Normal bootup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bootloader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OneNAND booting (more faster than Nand flash, 2 times)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Kernel / device driver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use Preset LJP (Loop Per Jiffies) 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odule init optimiza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use non-compressed kernel image 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ize optimization ( kernel, library )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move kernel messag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File syste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application optim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1117440"/>
            <a:ext cx="885672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t using u-boot except development period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 loader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itializes a system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loads the  Kernel image into RAM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inimal initializ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emory, clock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 devic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AND Flash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OneNAND Flash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When power on,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xloader</a:t>
            </a: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1KB bootloader of OneNAND flash) </a:t>
            </a:r>
            <a:br>
              <a:rPr sz="1700"/>
            </a:b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s executed automatically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ardly influence to bootup tim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ore fast than nand flash (2 times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357120" y="122400"/>
            <a:ext cx="9374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  <a:ea typeface="HY견고딕"/>
              </a:rPr>
              <a:t>Boot loader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Y견고딕"/>
              </a:rPr>
              <a:t>Flash Partition Usage (OneNAND flash)</a:t>
            </a:r>
            <a:endParaRPr b="0" lang="en-US" sz="31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9320"/>
            <a:ext cx="7848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303640" y="2016000"/>
            <a:ext cx="2734920" cy="5763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bootloader paramt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2303640" y="2592360"/>
            <a:ext cx="2734920" cy="719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Linux Kernel Im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2303640" y="3311640"/>
            <a:ext cx="2734920" cy="936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CRAMF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(Code &amp; Library file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5688000" y="1582560"/>
            <a:ext cx="2735280" cy="2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boot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38560" y="172728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303640" y="1440000"/>
            <a:ext cx="2734920" cy="5760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xload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303640" y="4248000"/>
            <a:ext cx="2734920" cy="15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Robust F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(System Config Files &amp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User Data File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664000" y="6335640"/>
            <a:ext cx="17269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64MB OneNA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870200" y="129528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870200" y="187164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128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1870200" y="244800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256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1870200" y="316692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2M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870200" y="410364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20M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5688000" y="2158920"/>
            <a:ext cx="2735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param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038560" y="230184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5688000" y="2808360"/>
            <a:ext cx="2735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kernel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038560" y="294948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600360"/>
            <a:ext cx="2735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root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038560" y="374328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5688000" y="4824360"/>
            <a:ext cx="2735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Robust FS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038560" y="496728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303640" y="5759280"/>
            <a:ext cx="2734920" cy="5050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Reserved Are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</a:rPr>
              <a:t>Kernel</a:t>
            </a: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 &amp; D/D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419040" indent="-419040">
              <a:spcBef>
                <a:spcPts val="499"/>
              </a:spcBef>
              <a:buSzPct val="256981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Using uncompressed Image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ave decompressing tim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Preset loops_per_jiffy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Find out loops_per_jiffy values, and hard coding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Disable Console Output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Just add ‘quiet’ option to command line when compil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Remove root file system check routine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Concurrent driver init 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DSC Motor has long initialization tim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odification zoom motor init cod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311120" indent="-32364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More than 1sec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2" marL="1311120" indent="-32364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Motor init can be parallelized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nitialize at start of the bootloader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6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Remove the static device driver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t makes smaller kernel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ave the module init time at bootup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The modules which is not need at bootup time can be loaded after bootup.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5280" y="3384720"/>
            <a:ext cx="7954920" cy="2447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ing memory allocation time for Image processing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Using boot-time allocation method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rnel doesn’t know about area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an save mem alloc tim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an using the big area DMA memory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ax : 12MB contiguous memory required (capture mode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0360" y="1008000"/>
            <a:ext cx="9288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ssues  of Root File System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e copy time at bootloader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e decompressing time when kernel initialized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mall size imag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Using busy box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Y헤드라인M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RAMF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ead only nand file system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odifiable directory has to mount another R/W file system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We use robust file system for OneNAND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t include bad block management algorithm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artial uncompressed cramf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e decompressing tim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t tested at this tim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357120" y="122400"/>
            <a:ext cx="9374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  <a:ea typeface="HY견고딕"/>
              </a:rPr>
              <a:t>Root File system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1008000"/>
            <a:ext cx="95043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troduction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SC Bootup Procedur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up time reduction methods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 loader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rnel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oot File system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Application Optimization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uspend/resum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Further work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6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57120" y="122400"/>
            <a:ext cx="9374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  <a:ea typeface="HY견고딕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HY견고딕"/>
              </a:rPr>
              <a:t>Application init &amp; loading</a:t>
            </a:r>
            <a:endParaRPr b="0" lang="en-US" sz="31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Loading OSD data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When system bootup, load only need data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DSC application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If preview mode, other process creation init &amp; loading can delay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Memory allocation, copy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Time spending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DSC processing much Image data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Storage device Init &amp; mount ti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Sd/mmc card initial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Initialization can be delayed 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Background processing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Card Device Init (device init, mount, etc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storage information reading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Init DCF/Exif S/W modul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Result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57120" y="1104840"/>
          <a:ext cx="6627960" cy="5670720"/>
        </p:xfrm>
        <a:graphic>
          <a:graphicData uri="http://schemas.openxmlformats.org/drawingml/2006/table">
            <a:tbl>
              <a:tblPr/>
              <a:tblGrid>
                <a:gridCol w="1636920"/>
                <a:gridCol w="2290680"/>
                <a:gridCol w="2700360"/>
              </a:tblGrid>
              <a:tr h="7113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Boot Sta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NAND flas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0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Boot Load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Boot load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HY헤드라인M"/>
                          <a:ea typeface="HY헤드라인M"/>
                        </a:rPr>
                        <a:t>43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Kernel Image copy to RA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HY헤드라인M"/>
                          <a:ea typeface="HY헤드라인M"/>
                        </a:rPr>
                        <a:t>7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Kern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Kernel basic setu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89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Applic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mount file syst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Application (preview) star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6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3300"/>
                          </a:solidFill>
                          <a:latin typeface="HY헤드라인M"/>
                          <a:ea typeface="HY헤드라인M"/>
                        </a:rPr>
                        <a:t>Total (ms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3300"/>
                          </a:solidFill>
                          <a:latin typeface="HY헤드라인M"/>
                          <a:ea typeface="HY헤드라인M"/>
                        </a:rPr>
                        <a:t>27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128000" y="1104840"/>
          <a:ext cx="2603520" cy="5670360"/>
        </p:xfrm>
        <a:graphic>
          <a:graphicData uri="http://schemas.openxmlformats.org/drawingml/2006/table">
            <a:tbl>
              <a:tblPr/>
              <a:tblGrid>
                <a:gridCol w="2603520"/>
              </a:tblGrid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OneNAND flas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2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HY헤드라인M"/>
                          <a:ea typeface="HY헤드라인M"/>
                        </a:rPr>
                        <a:t>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89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6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500" spc="-1" strike="noStrike">
                          <a:solidFill>
                            <a:srgbClr val="ff3300"/>
                          </a:solidFill>
                          <a:latin typeface="HY헤드라인M"/>
                          <a:ea typeface="HY헤드라인M"/>
                        </a:rPr>
                        <a:t>20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Result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8" name=""/>
          <p:cNvSpPr/>
          <p:nvPr/>
        </p:nvSpPr>
        <p:spPr>
          <a:xfrm>
            <a:off x="4260960" y="205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260960" y="2206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4260960" y="22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260960" y="265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152360"/>
          <a:ext cx="9361440" cy="5400720"/>
        </p:xfrm>
        <a:graphic>
          <a:graphicData uri="http://schemas.openxmlformats.org/drawingml/2006/table">
            <a:tbl>
              <a:tblPr/>
              <a:tblGrid>
                <a:gridCol w="1709640"/>
                <a:gridCol w="1434960"/>
                <a:gridCol w="4865760"/>
                <a:gridCol w="1351080"/>
              </a:tblGrid>
              <a:tr h="346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Booting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Bootloa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Initialize CPU &amp; RAM &amp; Uboo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Copy kernel image (from flash to ra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Kernel I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setup_arch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trap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kmem_cache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mem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vfs_caches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page_cache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rest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o_basic_setup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prepare_namespac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console op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ready to use file syste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SC process (preview mod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</a:rPr>
              <a:t>Suspend / Resume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uspend-to-ram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During system suspend, the ram change to self-refresh mod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he cost of suspend/resume to 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Power consump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elf refresh mode of D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power off all devices except but 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Boot flags register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If it locates at DSP, consume more power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Using power management unit  </a:t>
            </a:r>
            <a:r>
              <a:rPr b="0" lang="en-US" sz="1700" spc="-1" strike="noStrike">
                <a:solidFill>
                  <a:srgbClr val="0066ff"/>
                </a:solidFill>
                <a:latin typeface="HY헤드라인M"/>
              </a:rPr>
              <a:t>(PMU)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Other information will be stored at global variables in D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CPU register, stack, I/O register values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System suspend procedure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6" name=""/>
          <p:cNvSpPr/>
          <p:nvPr/>
        </p:nvSpPr>
        <p:spPr>
          <a:xfrm>
            <a:off x="3095640" y="2155680"/>
            <a:ext cx="352908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PU Register Save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2951280"/>
            <a:ext cx="352908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O Register Contents save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3095640" y="3743280"/>
            <a:ext cx="352908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et to self refresh mode of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9" name=""/>
          <p:cNvCxnSpPr>
            <a:stCxn id="178" idx="2"/>
          </p:cNvCxnSpPr>
          <p:nvPr/>
        </p:nvCxnSpPr>
        <p:spPr>
          <a:xfrm rot="5400000">
            <a:off x="4716360" y="4388400"/>
            <a:ext cx="286560" cy="2520"/>
          </a:xfrm>
          <a:prstGeom prst="bentConnector3">
            <a:avLst>
              <a:gd name="adj1" fmla="val 49937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80" name=""/>
          <p:cNvCxnSpPr>
            <a:stCxn id="177" idx="2"/>
            <a:endCxn id="178" idx="0"/>
          </p:cNvCxnSpPr>
          <p:nvPr/>
        </p:nvCxnSpPr>
        <p:spPr>
          <a:xfrm flipV="1" rot="10800000">
            <a:off x="4860360" y="3454200"/>
            <a:ext cx="1080" cy="289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81" name=""/>
          <p:cNvCxnSpPr>
            <a:stCxn id="176" idx="2"/>
            <a:endCxn id="177" idx="0"/>
          </p:cNvCxnSpPr>
          <p:nvPr/>
        </p:nvCxnSpPr>
        <p:spPr>
          <a:xfrm flipV="1" rot="10800000">
            <a:off x="4860360" y="2658600"/>
            <a:ext cx="1080" cy="2930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82" name=""/>
          <p:cNvSpPr/>
          <p:nvPr/>
        </p:nvSpPr>
        <p:spPr>
          <a:xfrm>
            <a:off x="3095640" y="1436760"/>
            <a:ext cx="352908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ower off Button Pus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3" name=""/>
          <p:cNvCxnSpPr>
            <a:stCxn id="182" idx="2"/>
            <a:endCxn id="176" idx="0"/>
          </p:cNvCxnSpPr>
          <p:nvPr/>
        </p:nvCxnSpPr>
        <p:spPr>
          <a:xfrm flipV="1" rot="10800000">
            <a:off x="4860360" y="1939680"/>
            <a:ext cx="1080" cy="216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84" name=""/>
          <p:cNvSpPr/>
          <p:nvPr/>
        </p:nvSpPr>
        <p:spPr>
          <a:xfrm>
            <a:off x="3095640" y="4535640"/>
            <a:ext cx="3529080" cy="50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e flag of fast boot to PMU Regis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095640" y="5256360"/>
            <a:ext cx="3529080" cy="792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ower off CPU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all devices except PMU &amp;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6" name=""/>
          <p:cNvCxnSpPr>
            <a:stCxn id="184" idx="2"/>
            <a:endCxn id="185" idx="0"/>
          </p:cNvCxnSpPr>
          <p:nvPr/>
        </p:nvCxnSpPr>
        <p:spPr>
          <a:xfrm flipV="1" rot="10800000">
            <a:off x="4860360" y="5038200"/>
            <a:ext cx="1080" cy="218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System resume procedure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08764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eset vect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88288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SC H/W ini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3675240"/>
            <a:ext cx="2665440" cy="50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isable Interrup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1366920" y="4464000"/>
            <a:ext cx="2519280" cy="1008000"/>
          </a:xfrm>
          <a:prstGeom prst="diamond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Check if suspend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83236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lock, Memory Ini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2642040" y="5400720"/>
            <a:ext cx="8982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55308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rnel loading &amp; ju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5902200" y="2592360"/>
            <a:ext cx="2667240" cy="503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Restore HW register valu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902200" y="6121440"/>
            <a:ext cx="2667240" cy="503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Execute DSC ap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902200" y="3382920"/>
            <a:ext cx="2667240" cy="504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HY헤드라인M"/>
                <a:ea typeface="HY헤드라인M"/>
              </a:rPr>
              <a:t>Set interrupt for resum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902200" y="4176720"/>
            <a:ext cx="2667240" cy="649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Restore variables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CPU register valu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5902200" y="5114880"/>
            <a:ext cx="2667240" cy="64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DSC HW / App init &amp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Check DSC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0" name=""/>
          <p:cNvCxnSpPr>
            <a:stCxn id="191" idx="3"/>
            <a:endCxn id="195" idx="1"/>
          </p:cNvCxnSpPr>
          <p:nvPr/>
        </p:nvCxnSpPr>
        <p:spPr>
          <a:xfrm flipV="1">
            <a:off x="3886200" y="2844360"/>
            <a:ext cx="2016720" cy="2124720"/>
          </a:xfrm>
          <a:prstGeom prst="bentConnector3">
            <a:avLst>
              <a:gd name="adj1" fmla="val 49991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01" name=""/>
          <p:cNvSpPr/>
          <p:nvPr/>
        </p:nvSpPr>
        <p:spPr>
          <a:xfrm>
            <a:off x="3582000" y="4510080"/>
            <a:ext cx="123228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HY헤드라인M"/>
                <a:ea typeface="HY헤드라인M"/>
              </a:rPr>
              <a:t>suspende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2" name=""/>
          <p:cNvCxnSpPr>
            <a:stCxn id="195" idx="2"/>
            <a:endCxn id="197" idx="0"/>
          </p:cNvCxnSpPr>
          <p:nvPr/>
        </p:nvCxnSpPr>
        <p:spPr>
          <a:xfrm flipV="1" rot="10800000">
            <a:off x="7235280" y="3095280"/>
            <a:ext cx="1080" cy="2880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03" name=""/>
          <p:cNvCxnSpPr>
            <a:stCxn id="197" idx="2"/>
            <a:endCxn id="198" idx="0"/>
          </p:cNvCxnSpPr>
          <p:nvPr/>
        </p:nvCxnSpPr>
        <p:spPr>
          <a:xfrm flipV="1" rot="10800000">
            <a:off x="7235280" y="3886920"/>
            <a:ext cx="1080" cy="289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04" name=""/>
          <p:cNvCxnSpPr>
            <a:stCxn id="198" idx="2"/>
            <a:endCxn id="199" idx="0"/>
          </p:cNvCxnSpPr>
          <p:nvPr/>
        </p:nvCxnSpPr>
        <p:spPr>
          <a:xfrm flipV="1" rot="10800000">
            <a:off x="7235280" y="4825800"/>
            <a:ext cx="1080" cy="289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05" name=""/>
          <p:cNvCxnSpPr>
            <a:stCxn id="199" idx="2"/>
            <a:endCxn id="196" idx="0"/>
          </p:cNvCxnSpPr>
          <p:nvPr/>
        </p:nvCxnSpPr>
        <p:spPr>
          <a:xfrm flipV="1" rot="10800000">
            <a:off x="7235280" y="5760720"/>
            <a:ext cx="1080" cy="36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06" name=""/>
          <p:cNvSpPr/>
          <p:nvPr/>
        </p:nvSpPr>
        <p:spPr>
          <a:xfrm>
            <a:off x="6127920" y="936720"/>
            <a:ext cx="22363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esume boot 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146160" y="2448000"/>
            <a:ext cx="934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 load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8" name=""/>
          <p:cNvCxnSpPr>
            <a:stCxn id="192" idx="2"/>
            <a:endCxn id="194" idx="0"/>
          </p:cNvCxnSpPr>
          <p:nvPr/>
        </p:nvCxnSpPr>
        <p:spPr>
          <a:xfrm flipV="1" rot="10800000">
            <a:off x="2628360" y="6335280"/>
            <a:ext cx="1080" cy="218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09" name=""/>
          <p:cNvCxnSpPr>
            <a:stCxn id="191" idx="2"/>
            <a:endCxn id="192" idx="0"/>
          </p:cNvCxnSpPr>
          <p:nvPr/>
        </p:nvCxnSpPr>
        <p:spPr>
          <a:xfrm flipH="1" rot="16200000">
            <a:off x="2446920" y="5650920"/>
            <a:ext cx="361080" cy="2520"/>
          </a:xfrm>
          <a:prstGeom prst="bentConnector3">
            <a:avLst>
              <a:gd name="adj1" fmla="val 497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0" name=""/>
          <p:cNvCxnSpPr>
            <a:stCxn id="190" idx="2"/>
            <a:endCxn id="191" idx="0"/>
          </p:cNvCxnSpPr>
          <p:nvPr/>
        </p:nvCxnSpPr>
        <p:spPr>
          <a:xfrm rot="5400000">
            <a:off x="2484360" y="4320000"/>
            <a:ext cx="286560" cy="2520"/>
          </a:xfrm>
          <a:prstGeom prst="bentConnector3">
            <a:avLst>
              <a:gd name="adj1" fmla="val 49937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1" name=""/>
          <p:cNvCxnSpPr>
            <a:stCxn id="189" idx="2"/>
            <a:endCxn id="190" idx="0"/>
          </p:cNvCxnSpPr>
          <p:nvPr/>
        </p:nvCxnSpPr>
        <p:spPr>
          <a:xfrm flipV="1" rot="10800000">
            <a:off x="2628360" y="3385440"/>
            <a:ext cx="1080" cy="289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2" name=""/>
          <p:cNvCxnSpPr>
            <a:stCxn id="188" idx="2"/>
            <a:endCxn id="189" idx="0"/>
          </p:cNvCxnSpPr>
          <p:nvPr/>
        </p:nvCxnSpPr>
        <p:spPr>
          <a:xfrm flipV="1" rot="10800000">
            <a:off x="2628360" y="2590560"/>
            <a:ext cx="1080" cy="2926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13" name=""/>
          <p:cNvSpPr/>
          <p:nvPr/>
        </p:nvSpPr>
        <p:spPr>
          <a:xfrm>
            <a:off x="5897520" y="1440000"/>
            <a:ext cx="2665440" cy="503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PMU 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936720"/>
            <a:ext cx="218448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rmal boot 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136836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6" name=""/>
          <p:cNvCxnSpPr>
            <a:stCxn id="215" idx="2"/>
            <a:endCxn id="188" idx="0"/>
          </p:cNvCxnSpPr>
          <p:nvPr/>
        </p:nvCxnSpPr>
        <p:spPr>
          <a:xfrm flipV="1" rot="10800000">
            <a:off x="2628360" y="1871280"/>
            <a:ext cx="1080" cy="216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7" name=""/>
          <p:cNvCxnSpPr>
            <a:stCxn id="213" idx="1"/>
            <a:endCxn id="188" idx="3"/>
          </p:cNvCxnSpPr>
          <p:nvPr/>
        </p:nvCxnSpPr>
        <p:spPr>
          <a:xfrm flipV="1" rot="10800000">
            <a:off x="3960000" y="1691280"/>
            <a:ext cx="1937520" cy="648360"/>
          </a:xfrm>
          <a:prstGeom prst="bentConnector3">
            <a:avLst>
              <a:gd name="adj1" fmla="val 4999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18" name=""/>
          <p:cNvSpPr/>
          <p:nvPr/>
        </p:nvSpPr>
        <p:spPr>
          <a:xfrm>
            <a:off x="5604840" y="6769080"/>
            <a:ext cx="32954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* PMU: Power Management Uni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Results of suspend/resume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rom reset to preview stat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About </a:t>
            </a:r>
            <a:r>
              <a:rPr b="0" lang="en-US" sz="1900" spc="-1" strike="noStrike">
                <a:solidFill>
                  <a:srgbClr val="0066ff"/>
                </a:solidFill>
                <a:latin typeface="HY헤드라인M"/>
              </a:rPr>
              <a:t>800 m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or power saving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It is possible to full shutdown when user does not operat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during settled tim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Excepted method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Kernel XIP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Executing code directly from flash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Reduce boot time and save cost, et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Current platform has no proper devices (e.g Nor Flash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Parallelizing of services execution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applying techniques of parallelizing RC-scripts at system / user space start up 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Effectiveness depends on the number of service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Embedded system such as DSC has not many service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Further work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prelink (library execution optimization)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Bootcach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Suspend-to-disk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Boot process analyzing with tools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Ex) Bootchar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optimized block copy in OneNAND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OneNAND cached copy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synchronous mod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Conclusion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There exist many methods for reducing the Linux Bootup ti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The Reduction methods are variant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rom the DSC H/W or scenario,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o we have to choice the proper policy.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Linux Bootup methods for DSC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normal boo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Many reduction methods can be adopted but,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choice &amp; evaluation is needed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Embedded Linux can satisfy the requirements of DSC Bootup time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term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9000"/>
          </a:bodyPr>
          <a:p>
            <a:pPr marL="365760" indent="-36576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DSC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Digital still camera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Bootup ti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he time from platform power on to preview stat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Preview stat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he DSC state for ready-to-sho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Auto focus, auto white balance, auto expos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uspend to d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6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RF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Root file system for Linux Kernel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7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Robust F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Linux file system for OneNAND flash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8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Normal boot, suspend/resume boot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Reference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Linux on a Digital Camera, Porting 2.4 Linux kernel to an existing digital camera,</a:t>
            </a:r>
            <a:br>
              <a:rPr sz="2200"/>
            </a:b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Alain Volmat, Ricoh Company Ltd.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Methods to Improve Bootup Time in Linux</a:t>
            </a:r>
            <a:br>
              <a:rPr sz="2200"/>
            </a:b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Tim R. Bird, Sony Electronic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IBM developer white paper, “Boot linux faster, parallelize Linux system services to improve boot speed”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|</a:t>
            </a:r>
            <a:br>
              <a:rPr sz="2200"/>
            </a:br>
            <a:r>
              <a:rPr b="0" lang="en-US" sz="2200" spc="-1" strike="noStrike" u="sng">
                <a:solidFill>
                  <a:srgbClr val="009999"/>
                </a:solidFill>
                <a:uFillTx/>
                <a:latin typeface="HY헤드라인M"/>
                <a:hlinkClick r:id="rId4"/>
              </a:rPr>
              <a:t>http://www-106.ibm.com/developerworks/linux/library/l-boot.html?ca=dgr-lnxw04BootFaster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649"/>
              </a:spcBef>
              <a:buSzPct val="217635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헤드라인M"/>
              </a:rPr>
              <a:t>About this project</a:t>
            </a:r>
            <a:endParaRPr b="0" lang="en-US" sz="26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524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In samsung, Embedded Linux ported for many CE devices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76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DTV, DMB, Mobile phone, DVR, other set top boxes, et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524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But not DSC area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DSC use many RTOSes ( vxworks, pSos, uITRON, </a:t>
            </a: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Nucleus, etc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524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Project stated for evaluation of embedded linux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649"/>
              </a:spcBef>
              <a:buSzPct val="217635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헤드라인M"/>
              </a:rPr>
              <a:t>Why Linux in DSC</a:t>
            </a:r>
            <a:endParaRPr b="0" lang="en-US" sz="26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Technical Convergence in CE Device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Plentiful of Applic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Open S/W Platfor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Cost?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Embedded Linux on DSC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here exist only few cases which was published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E.g.  Ricoh Company made prototype Linux DS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649"/>
              </a:spcBef>
              <a:buSzPct val="217635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Y헤드라인M"/>
              </a:rPr>
              <a:t>DSC &amp; bootup time</a:t>
            </a:r>
            <a:endParaRPr b="0" lang="en-US" sz="26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Long bootup time diminish customer satisfac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Bootup Time is more important in DS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00"/>
              </a:spcBef>
              <a:buSzPct val="201995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Linux Bootup Time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PC : 1 min or mor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Embedded System : 2~10 se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Depends on system, Applications, Policy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Image loading, H/W peripherals, application init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3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SzPct val="201995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applied Bootup methods for DSC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Normal Boo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bootloader ~ preview application running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using suspend-to-ra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SzPct val="201995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Normal boot : 2 se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uspend/resume : 1 se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Test Environment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" y="1223640"/>
            <a:ext cx="5546880" cy="4878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524"/>
              </a:spcBef>
              <a:buSzPct val="269327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Target Platform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Cor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ARM926EJS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mage processor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Samsung S5C7380x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ystem clock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216Mhz Fclock,108Mhz Hclock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emory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64MB DDR, 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64MB One-NAND flash ( async mode )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374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DSC Module &amp; etc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6M CCD(CMOS) censor, AF/Zoom/Shutter/Iris motor, Digital LCD, JPEG/MPEG codec, etc.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USB, ADC, SD/MMC Card, etc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1" name=""/>
          <p:cNvSpPr/>
          <p:nvPr/>
        </p:nvSpPr>
        <p:spPr>
          <a:xfrm>
            <a:off x="5616720" y="3529080"/>
            <a:ext cx="4464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4.20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n-compressed Imag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ize : about 1MB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90000"/>
              </a:lnSpc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File System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oot fs : Cramf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obust FS for Flash filesystem in OneNAND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545080" y="1152360"/>
            <a:ext cx="345600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Bootup time reduction i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Every little makes a mickle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All kinds of techniques are needed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Firmware (boot loader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inimal system init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hortening image copy tim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Boot devices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Hardware initial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One time System initialization 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move H/W probing tim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Only initialize the device which was used when bootup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E.g. Dsc motors, storage (HDD, Card, Flash), DSP, etc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Image small sizing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kernel, root fs (libraries), D/D Modules, etc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Depends on the kernel configura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Device driver initial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move H/W probing &amp; Initializa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Using hard coding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odule loading policy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3" marL="1728720" indent="-247680">
              <a:spcBef>
                <a:spcPts val="425"/>
              </a:spcBef>
              <a:buClr>
                <a:srgbClr val="000000"/>
              </a:buClr>
              <a:buFont typeface="굴림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굴림"/>
              </a:rPr>
              <a:t>Using static module if needed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3" marL="1728720" indent="-247680">
              <a:spcBef>
                <a:spcPts val="425"/>
              </a:spcBef>
              <a:buClr>
                <a:srgbClr val="000000"/>
              </a:buClr>
              <a:buFont typeface="굴림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굴림"/>
              </a:rPr>
              <a:t>Other modules can load when needed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3" marL="172872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application optim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source loading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emory alloca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App setup procedur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6:30:26Z</dcterms:created>
  <dc:creator>정문숙</dc:creator>
  <dc:description/>
  <dc:language>en-US</dc:language>
  <cp:lastModifiedBy>bestworld</cp:lastModifiedBy>
  <dcterms:modified xsi:type="dcterms:W3CDTF">2006-08-16T08:39:24Z</dcterms:modified>
  <cp:revision>401</cp:revision>
  <dc:subject/>
  <dc:title>슬라이드 1</dc:title>
</cp:coreProperties>
</file>